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15920" y="431640"/>
            <a:ext cx="10972800" cy="2081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15920" y="2513160"/>
            <a:ext cx="10972800" cy="296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015920" y="5764680"/>
            <a:ext cx="10972800" cy="296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015920" y="431640"/>
            <a:ext cx="10972800" cy="2081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015920" y="2513160"/>
            <a:ext cx="5354640" cy="6224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6638760" y="2513160"/>
            <a:ext cx="5354640" cy="6224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015920" y="431640"/>
            <a:ext cx="10972800" cy="2081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5b5648"/>
              </a:solidFill>
              <a:latin typeface="Copperplate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1015920" y="431640"/>
            <a:ext cx="10972800" cy="965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15920" y="431640"/>
            <a:ext cx="10972800" cy="2081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15920" y="2513160"/>
            <a:ext cx="5354640" cy="296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6638760" y="2513160"/>
            <a:ext cx="5354640" cy="6224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1015920" y="5764680"/>
            <a:ext cx="5354640" cy="296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15920" y="431640"/>
            <a:ext cx="10972800" cy="2081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15920" y="2513160"/>
            <a:ext cx="5354640" cy="6224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638760" y="2513160"/>
            <a:ext cx="5354640" cy="296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638760" y="5764680"/>
            <a:ext cx="5354640" cy="296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15920" y="431640"/>
            <a:ext cx="10972800" cy="2081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15920" y="2513160"/>
            <a:ext cx="5354640" cy="296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6638760" y="2513160"/>
            <a:ext cx="5354640" cy="296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1015920" y="5764680"/>
            <a:ext cx="10972800" cy="296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015920" y="431640"/>
            <a:ext cx="10972800" cy="2081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015920" y="2513160"/>
            <a:ext cx="10972800" cy="296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1015920" y="5764680"/>
            <a:ext cx="10972800" cy="296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015920" y="431640"/>
            <a:ext cx="10972800" cy="2081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015920" y="2513160"/>
            <a:ext cx="5354640" cy="296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6638760" y="2513160"/>
            <a:ext cx="5354640" cy="296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1015920" y="5764680"/>
            <a:ext cx="5354640" cy="296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6638760" y="5764680"/>
            <a:ext cx="5354640" cy="296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015920" y="431640"/>
            <a:ext cx="10972800" cy="2081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015920" y="2513160"/>
            <a:ext cx="3533040" cy="296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726080" y="2513160"/>
            <a:ext cx="3533040" cy="296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8436240" y="2513160"/>
            <a:ext cx="3533040" cy="296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1015920" y="5764680"/>
            <a:ext cx="3533040" cy="296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4726080" y="5764680"/>
            <a:ext cx="3533040" cy="296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8436240" y="5764680"/>
            <a:ext cx="3533040" cy="296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15920" y="431640"/>
            <a:ext cx="10972800" cy="2081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15920" y="2513160"/>
            <a:ext cx="5354640" cy="296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8760" y="2513160"/>
            <a:ext cx="5354640" cy="296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15920" y="5764680"/>
            <a:ext cx="5354640" cy="296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8760" y="5764680"/>
            <a:ext cx="5354640" cy="296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015920" y="431640"/>
            <a:ext cx="10972800" cy="2081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1015920" y="2513160"/>
            <a:ext cx="10972800" cy="62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015920" y="431640"/>
            <a:ext cx="10972800" cy="2081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015920" y="2513160"/>
            <a:ext cx="10972800" cy="6224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015920" y="431640"/>
            <a:ext cx="10972800" cy="2081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015920" y="2513160"/>
            <a:ext cx="5354640" cy="6224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6638760" y="2513160"/>
            <a:ext cx="5354640" cy="6224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015920" y="431640"/>
            <a:ext cx="10972800" cy="2081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5b5648"/>
              </a:solidFill>
              <a:latin typeface="Copperplate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1015920" y="431640"/>
            <a:ext cx="10972800" cy="965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015920" y="431640"/>
            <a:ext cx="10972800" cy="2081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015920" y="2513160"/>
            <a:ext cx="5354640" cy="296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638760" y="2513160"/>
            <a:ext cx="5354640" cy="6224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1015920" y="5764680"/>
            <a:ext cx="5354640" cy="296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015920" y="431640"/>
            <a:ext cx="10972800" cy="2081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015920" y="2513160"/>
            <a:ext cx="5354640" cy="6224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6638760" y="2513160"/>
            <a:ext cx="5354640" cy="296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638760" y="5764680"/>
            <a:ext cx="5354640" cy="296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015920" y="431640"/>
            <a:ext cx="10972800" cy="2081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015920" y="2513160"/>
            <a:ext cx="5354640" cy="296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6638760" y="2513160"/>
            <a:ext cx="5354640" cy="296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1015920" y="5764680"/>
            <a:ext cx="10972800" cy="296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015920" y="431640"/>
            <a:ext cx="10972800" cy="2081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015920" y="2513160"/>
            <a:ext cx="10972800" cy="296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1015920" y="5764680"/>
            <a:ext cx="10972800" cy="296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015920" y="431640"/>
            <a:ext cx="10972800" cy="2081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015920" y="2513160"/>
            <a:ext cx="5354640" cy="296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638760" y="2513160"/>
            <a:ext cx="5354640" cy="296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1015920" y="5764680"/>
            <a:ext cx="5354640" cy="296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6638760" y="5764680"/>
            <a:ext cx="5354640" cy="296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5920" y="431640"/>
            <a:ext cx="10972800" cy="2081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15920" y="2513160"/>
            <a:ext cx="3533040" cy="296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6080" y="2513160"/>
            <a:ext cx="3533040" cy="296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436240" y="2513160"/>
            <a:ext cx="3533040" cy="296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015920" y="5764680"/>
            <a:ext cx="3533040" cy="296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726080" y="5764680"/>
            <a:ext cx="3533040" cy="296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436240" y="5764680"/>
            <a:ext cx="3533040" cy="296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015920" y="431640"/>
            <a:ext cx="10972800" cy="2081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015920" y="2513160"/>
            <a:ext cx="3533040" cy="296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726080" y="2513160"/>
            <a:ext cx="3533040" cy="296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8436240" y="2513160"/>
            <a:ext cx="3533040" cy="296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1015920" y="5764680"/>
            <a:ext cx="3533040" cy="296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4726080" y="5764680"/>
            <a:ext cx="3533040" cy="296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8436240" y="5764680"/>
            <a:ext cx="3533040" cy="296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015920" y="431640"/>
            <a:ext cx="10972800" cy="2081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1015920" y="2513160"/>
            <a:ext cx="10972800" cy="62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015920" y="431640"/>
            <a:ext cx="10972800" cy="2081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015920" y="2513160"/>
            <a:ext cx="10972800" cy="6224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015920" y="431640"/>
            <a:ext cx="10972800" cy="2081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015920" y="2513160"/>
            <a:ext cx="5354640" cy="6224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6638760" y="2513160"/>
            <a:ext cx="5354640" cy="6224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015920" y="431640"/>
            <a:ext cx="10972800" cy="2081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5b5648"/>
              </a:solidFill>
              <a:latin typeface="Copperplate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1015920" y="431640"/>
            <a:ext cx="10972800" cy="965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015920" y="431640"/>
            <a:ext cx="10972800" cy="2081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015920" y="2513160"/>
            <a:ext cx="5354640" cy="296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6638760" y="2513160"/>
            <a:ext cx="5354640" cy="6224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1015920" y="5764680"/>
            <a:ext cx="5354640" cy="296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015920" y="431640"/>
            <a:ext cx="10972800" cy="2081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015920" y="2513160"/>
            <a:ext cx="5354640" cy="6224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6638760" y="2513160"/>
            <a:ext cx="5354640" cy="296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638760" y="5764680"/>
            <a:ext cx="5354640" cy="296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015920" y="431640"/>
            <a:ext cx="10972800" cy="2081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015920" y="2513160"/>
            <a:ext cx="5354640" cy="296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6638760" y="2513160"/>
            <a:ext cx="5354640" cy="296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1015920" y="5764680"/>
            <a:ext cx="10972800" cy="296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015920" y="431640"/>
            <a:ext cx="10972800" cy="2081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015920" y="2513160"/>
            <a:ext cx="10972800" cy="296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1015920" y="5764680"/>
            <a:ext cx="10972800" cy="296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015920" y="431640"/>
            <a:ext cx="10972800" cy="2081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015920" y="2513160"/>
            <a:ext cx="5354640" cy="296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6638760" y="2513160"/>
            <a:ext cx="5354640" cy="296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1015920" y="5764680"/>
            <a:ext cx="5354640" cy="296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6638760" y="5764680"/>
            <a:ext cx="5354640" cy="296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015920" y="431640"/>
            <a:ext cx="10972800" cy="2081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015920" y="2513160"/>
            <a:ext cx="3533040" cy="296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726080" y="2513160"/>
            <a:ext cx="3533040" cy="296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8436240" y="2513160"/>
            <a:ext cx="3533040" cy="296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1015920" y="5764680"/>
            <a:ext cx="3533040" cy="296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4726080" y="5764680"/>
            <a:ext cx="3533040" cy="296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8436240" y="5764680"/>
            <a:ext cx="3533040" cy="296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015920" y="431640"/>
            <a:ext cx="10972800" cy="2081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1015920" y="2513160"/>
            <a:ext cx="10972800" cy="62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015920" y="431640"/>
            <a:ext cx="10972800" cy="2081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015920" y="2513160"/>
            <a:ext cx="10972800" cy="6224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015920" y="431640"/>
            <a:ext cx="10972800" cy="2081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015920" y="2513160"/>
            <a:ext cx="5354640" cy="6224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6638760" y="2513160"/>
            <a:ext cx="5354640" cy="6224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015920" y="431640"/>
            <a:ext cx="10972800" cy="2081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5b5648"/>
              </a:solidFill>
              <a:latin typeface="Copperplate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1015920" y="431640"/>
            <a:ext cx="10972800" cy="965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015920" y="431640"/>
            <a:ext cx="10972800" cy="2081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015920" y="2513160"/>
            <a:ext cx="5354640" cy="296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6638760" y="2513160"/>
            <a:ext cx="5354640" cy="6224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1015920" y="5764680"/>
            <a:ext cx="5354640" cy="296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15920" y="431640"/>
            <a:ext cx="10972800" cy="2081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015920" y="2513160"/>
            <a:ext cx="10972800" cy="62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015920" y="431640"/>
            <a:ext cx="10972800" cy="2081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015920" y="2513160"/>
            <a:ext cx="5354640" cy="6224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6638760" y="2513160"/>
            <a:ext cx="5354640" cy="296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638760" y="5764680"/>
            <a:ext cx="5354640" cy="296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015920" y="431640"/>
            <a:ext cx="10972800" cy="2081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015920" y="2513160"/>
            <a:ext cx="5354640" cy="296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6638760" y="2513160"/>
            <a:ext cx="5354640" cy="296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1015920" y="5764680"/>
            <a:ext cx="10972800" cy="296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015920" y="431640"/>
            <a:ext cx="10972800" cy="2081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015920" y="2513160"/>
            <a:ext cx="10972800" cy="296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1015920" y="5764680"/>
            <a:ext cx="10972800" cy="296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015920" y="431640"/>
            <a:ext cx="10972800" cy="2081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015920" y="2513160"/>
            <a:ext cx="5354640" cy="296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6638760" y="2513160"/>
            <a:ext cx="5354640" cy="296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1015920" y="5764680"/>
            <a:ext cx="5354640" cy="296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6638760" y="5764680"/>
            <a:ext cx="5354640" cy="296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015920" y="431640"/>
            <a:ext cx="10972800" cy="2081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015920" y="2513160"/>
            <a:ext cx="3533040" cy="296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726080" y="2513160"/>
            <a:ext cx="3533040" cy="296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8436240" y="2513160"/>
            <a:ext cx="3533040" cy="296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1015920" y="5764680"/>
            <a:ext cx="3533040" cy="296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4726080" y="5764680"/>
            <a:ext cx="3533040" cy="296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8436240" y="5764680"/>
            <a:ext cx="3533040" cy="296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15920" y="431640"/>
            <a:ext cx="10972800" cy="2081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15920" y="2513160"/>
            <a:ext cx="10972800" cy="6224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15920" y="431640"/>
            <a:ext cx="10972800" cy="2081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15920" y="2513160"/>
            <a:ext cx="5354640" cy="6224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38760" y="2513160"/>
            <a:ext cx="5354640" cy="6224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15920" y="431640"/>
            <a:ext cx="10972800" cy="2081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5b5648"/>
              </a:solidFill>
              <a:latin typeface="Copperplat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015920" y="431640"/>
            <a:ext cx="10972800" cy="965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15920" y="431640"/>
            <a:ext cx="10972800" cy="2081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15920" y="2513160"/>
            <a:ext cx="5354640" cy="296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8760" y="2513160"/>
            <a:ext cx="5354640" cy="6224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015920" y="5764680"/>
            <a:ext cx="5354640" cy="296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015920" y="431640"/>
            <a:ext cx="10972800" cy="2081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015920" y="2513160"/>
            <a:ext cx="10972800" cy="62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15920" y="431640"/>
            <a:ext cx="10972800" cy="2081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15920" y="2513160"/>
            <a:ext cx="5354640" cy="6224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38760" y="2513160"/>
            <a:ext cx="5354640" cy="296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38760" y="5764680"/>
            <a:ext cx="5354640" cy="296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15920" y="431640"/>
            <a:ext cx="10972800" cy="2081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15920" y="2513160"/>
            <a:ext cx="5354640" cy="296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38760" y="2513160"/>
            <a:ext cx="5354640" cy="296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015920" y="5764680"/>
            <a:ext cx="10972800" cy="296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15920" y="431640"/>
            <a:ext cx="10972800" cy="2081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15920" y="2513160"/>
            <a:ext cx="10972800" cy="296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015920" y="5764680"/>
            <a:ext cx="10972800" cy="296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15920" y="431640"/>
            <a:ext cx="10972800" cy="2081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15920" y="2513160"/>
            <a:ext cx="5354640" cy="296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38760" y="2513160"/>
            <a:ext cx="5354640" cy="296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15920" y="5764680"/>
            <a:ext cx="5354640" cy="296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38760" y="5764680"/>
            <a:ext cx="5354640" cy="296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15920" y="431640"/>
            <a:ext cx="10972800" cy="2081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15920" y="2513160"/>
            <a:ext cx="3533040" cy="296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26080" y="2513160"/>
            <a:ext cx="3533040" cy="296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436240" y="2513160"/>
            <a:ext cx="3533040" cy="296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015920" y="5764680"/>
            <a:ext cx="3533040" cy="296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726080" y="5764680"/>
            <a:ext cx="3533040" cy="296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436240" y="5764680"/>
            <a:ext cx="3533040" cy="296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15920" y="431640"/>
            <a:ext cx="10972800" cy="2081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015920" y="2513160"/>
            <a:ext cx="10972800" cy="62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15920" y="431640"/>
            <a:ext cx="10972800" cy="2081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15920" y="2513160"/>
            <a:ext cx="10972800" cy="6224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15920" y="431640"/>
            <a:ext cx="10972800" cy="2081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15920" y="2513160"/>
            <a:ext cx="5354640" cy="6224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638760" y="2513160"/>
            <a:ext cx="5354640" cy="6224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15920" y="431640"/>
            <a:ext cx="10972800" cy="2081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5b5648"/>
              </a:solidFill>
              <a:latin typeface="Copperplat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15920" y="431640"/>
            <a:ext cx="10972800" cy="2081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015920" y="2513160"/>
            <a:ext cx="10972800" cy="6224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015920" y="431640"/>
            <a:ext cx="10972800" cy="965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15920" y="431640"/>
            <a:ext cx="10972800" cy="2081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15920" y="2513160"/>
            <a:ext cx="5354640" cy="296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38760" y="2513160"/>
            <a:ext cx="5354640" cy="6224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015920" y="5764680"/>
            <a:ext cx="5354640" cy="296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15920" y="431640"/>
            <a:ext cx="10972800" cy="2081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15920" y="2513160"/>
            <a:ext cx="5354640" cy="6224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638760" y="2513160"/>
            <a:ext cx="5354640" cy="296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638760" y="5764680"/>
            <a:ext cx="5354640" cy="296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15920" y="431640"/>
            <a:ext cx="10972800" cy="2081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15920" y="2513160"/>
            <a:ext cx="5354640" cy="296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638760" y="2513160"/>
            <a:ext cx="5354640" cy="296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015920" y="5764680"/>
            <a:ext cx="10972800" cy="296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15920" y="431640"/>
            <a:ext cx="10972800" cy="2081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15920" y="2513160"/>
            <a:ext cx="10972800" cy="296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015920" y="5764680"/>
            <a:ext cx="10972800" cy="296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15920" y="431640"/>
            <a:ext cx="10972800" cy="2081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15920" y="2513160"/>
            <a:ext cx="5354640" cy="296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638760" y="2513160"/>
            <a:ext cx="5354640" cy="296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015920" y="5764680"/>
            <a:ext cx="5354640" cy="296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638760" y="5764680"/>
            <a:ext cx="5354640" cy="296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15920" y="431640"/>
            <a:ext cx="10972800" cy="2081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15920" y="2513160"/>
            <a:ext cx="3533040" cy="296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26080" y="2513160"/>
            <a:ext cx="3533040" cy="296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436240" y="2513160"/>
            <a:ext cx="3533040" cy="296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015920" y="5764680"/>
            <a:ext cx="3533040" cy="296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726080" y="5764680"/>
            <a:ext cx="3533040" cy="296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8436240" y="5764680"/>
            <a:ext cx="3533040" cy="296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15920" y="431640"/>
            <a:ext cx="10972800" cy="2081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015920" y="2513160"/>
            <a:ext cx="10972800" cy="62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15920" y="431640"/>
            <a:ext cx="10972800" cy="2081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15920" y="2513160"/>
            <a:ext cx="10972800" cy="6224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15920" y="431640"/>
            <a:ext cx="10972800" cy="2081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15920" y="2513160"/>
            <a:ext cx="5354640" cy="6224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8760" y="2513160"/>
            <a:ext cx="5354640" cy="6224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15920" y="431640"/>
            <a:ext cx="10972800" cy="2081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15920" y="2513160"/>
            <a:ext cx="5354640" cy="6224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638760" y="2513160"/>
            <a:ext cx="5354640" cy="6224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15920" y="431640"/>
            <a:ext cx="10972800" cy="2081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5b5648"/>
              </a:solidFill>
              <a:latin typeface="Copperplate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1015920" y="431640"/>
            <a:ext cx="10972800" cy="965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15920" y="431640"/>
            <a:ext cx="10972800" cy="2081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15920" y="2513160"/>
            <a:ext cx="5354640" cy="296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638760" y="2513160"/>
            <a:ext cx="5354640" cy="6224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015920" y="5764680"/>
            <a:ext cx="5354640" cy="296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15920" y="431640"/>
            <a:ext cx="10972800" cy="2081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15920" y="2513160"/>
            <a:ext cx="5354640" cy="6224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6638760" y="2513160"/>
            <a:ext cx="5354640" cy="296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638760" y="5764680"/>
            <a:ext cx="5354640" cy="296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15920" y="431640"/>
            <a:ext cx="10972800" cy="2081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15920" y="2513160"/>
            <a:ext cx="5354640" cy="296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638760" y="2513160"/>
            <a:ext cx="5354640" cy="296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015920" y="5764680"/>
            <a:ext cx="10972800" cy="296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15920" y="431640"/>
            <a:ext cx="10972800" cy="2081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15920" y="2513160"/>
            <a:ext cx="10972800" cy="296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1015920" y="5764680"/>
            <a:ext cx="10972800" cy="296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15920" y="431640"/>
            <a:ext cx="10972800" cy="2081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15920" y="2513160"/>
            <a:ext cx="5354640" cy="296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638760" y="2513160"/>
            <a:ext cx="5354640" cy="296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15920" y="5764680"/>
            <a:ext cx="5354640" cy="296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6638760" y="5764680"/>
            <a:ext cx="5354640" cy="296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15920" y="431640"/>
            <a:ext cx="10972800" cy="2081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15920" y="2513160"/>
            <a:ext cx="3533040" cy="296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26080" y="2513160"/>
            <a:ext cx="3533040" cy="296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436240" y="2513160"/>
            <a:ext cx="3533040" cy="296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1015920" y="5764680"/>
            <a:ext cx="3533040" cy="296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4726080" y="5764680"/>
            <a:ext cx="3533040" cy="296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8436240" y="5764680"/>
            <a:ext cx="3533040" cy="296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5920" y="431640"/>
            <a:ext cx="10972800" cy="2081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5b5648"/>
              </a:solidFill>
              <a:latin typeface="Copperplate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15920" y="431640"/>
            <a:ext cx="10972800" cy="2081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015920" y="2513160"/>
            <a:ext cx="10972800" cy="62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15920" y="431640"/>
            <a:ext cx="10972800" cy="2081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15920" y="2513160"/>
            <a:ext cx="10972800" cy="6224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15920" y="431640"/>
            <a:ext cx="10972800" cy="2081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15920" y="2513160"/>
            <a:ext cx="5354640" cy="6224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638760" y="2513160"/>
            <a:ext cx="5354640" cy="6224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15920" y="431640"/>
            <a:ext cx="10972800" cy="2081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5b5648"/>
              </a:solidFill>
              <a:latin typeface="Copperplate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1015920" y="431640"/>
            <a:ext cx="10972800" cy="965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15920" y="431640"/>
            <a:ext cx="10972800" cy="2081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15920" y="2513160"/>
            <a:ext cx="5354640" cy="296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6638760" y="2513160"/>
            <a:ext cx="5354640" cy="6224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1015920" y="5764680"/>
            <a:ext cx="5354640" cy="296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15920" y="431640"/>
            <a:ext cx="10972800" cy="2081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15920" y="2513160"/>
            <a:ext cx="5354640" cy="6224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638760" y="2513160"/>
            <a:ext cx="5354640" cy="296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638760" y="5764680"/>
            <a:ext cx="5354640" cy="296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15920" y="431640"/>
            <a:ext cx="10972800" cy="2081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15920" y="2513160"/>
            <a:ext cx="5354640" cy="296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638760" y="2513160"/>
            <a:ext cx="5354640" cy="296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1015920" y="5764680"/>
            <a:ext cx="10972800" cy="296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15920" y="431640"/>
            <a:ext cx="10972800" cy="2081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15920" y="2513160"/>
            <a:ext cx="10972800" cy="296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1015920" y="5764680"/>
            <a:ext cx="10972800" cy="296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15920" y="431640"/>
            <a:ext cx="10972800" cy="2081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15920" y="2513160"/>
            <a:ext cx="5354640" cy="296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638760" y="2513160"/>
            <a:ext cx="5354640" cy="296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1015920" y="5764680"/>
            <a:ext cx="5354640" cy="296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6638760" y="5764680"/>
            <a:ext cx="5354640" cy="296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015920" y="431640"/>
            <a:ext cx="10972800" cy="965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15920" y="431640"/>
            <a:ext cx="10972800" cy="2081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15920" y="2513160"/>
            <a:ext cx="3533040" cy="296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726080" y="2513160"/>
            <a:ext cx="3533040" cy="296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8436240" y="2513160"/>
            <a:ext cx="3533040" cy="296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1015920" y="5764680"/>
            <a:ext cx="3533040" cy="296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4726080" y="5764680"/>
            <a:ext cx="3533040" cy="296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8436240" y="5764680"/>
            <a:ext cx="3533040" cy="296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15920" y="431640"/>
            <a:ext cx="10972800" cy="2081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1015920" y="2513160"/>
            <a:ext cx="10972800" cy="62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15920" y="431640"/>
            <a:ext cx="10972800" cy="2081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015920" y="2513160"/>
            <a:ext cx="10972800" cy="6224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15920" y="431640"/>
            <a:ext cx="10972800" cy="2081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15920" y="2513160"/>
            <a:ext cx="5354640" cy="6224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638760" y="2513160"/>
            <a:ext cx="5354640" cy="6224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15920" y="431640"/>
            <a:ext cx="10972800" cy="2081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5b5648"/>
              </a:solidFill>
              <a:latin typeface="Copperplate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1015920" y="431640"/>
            <a:ext cx="10972800" cy="965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15920" y="431640"/>
            <a:ext cx="10972800" cy="2081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015920" y="2513160"/>
            <a:ext cx="5354640" cy="296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638760" y="2513160"/>
            <a:ext cx="5354640" cy="6224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015920" y="5764680"/>
            <a:ext cx="5354640" cy="296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15920" y="431640"/>
            <a:ext cx="10972800" cy="2081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015920" y="2513160"/>
            <a:ext cx="5354640" cy="6224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638760" y="2513160"/>
            <a:ext cx="5354640" cy="296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638760" y="5764680"/>
            <a:ext cx="5354640" cy="296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015920" y="431640"/>
            <a:ext cx="10972800" cy="2081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015920" y="2513160"/>
            <a:ext cx="5354640" cy="296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6638760" y="2513160"/>
            <a:ext cx="5354640" cy="296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1015920" y="5764680"/>
            <a:ext cx="10972800" cy="296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5920" y="431640"/>
            <a:ext cx="10972800" cy="2081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15920" y="2513160"/>
            <a:ext cx="5354640" cy="296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8760" y="2513160"/>
            <a:ext cx="5354640" cy="6224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015920" y="5764680"/>
            <a:ext cx="5354640" cy="296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15920" y="431640"/>
            <a:ext cx="10972800" cy="2081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015920" y="2513160"/>
            <a:ext cx="10972800" cy="296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1015920" y="5764680"/>
            <a:ext cx="10972800" cy="296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15920" y="431640"/>
            <a:ext cx="10972800" cy="2081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015920" y="2513160"/>
            <a:ext cx="5354640" cy="296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638760" y="2513160"/>
            <a:ext cx="5354640" cy="296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1015920" y="5764680"/>
            <a:ext cx="5354640" cy="296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6638760" y="5764680"/>
            <a:ext cx="5354640" cy="296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15920" y="431640"/>
            <a:ext cx="10972800" cy="2081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15920" y="2513160"/>
            <a:ext cx="3533040" cy="296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726080" y="2513160"/>
            <a:ext cx="3533040" cy="296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436240" y="2513160"/>
            <a:ext cx="3533040" cy="296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1015920" y="5764680"/>
            <a:ext cx="3533040" cy="296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4726080" y="5764680"/>
            <a:ext cx="3533040" cy="296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8436240" y="5764680"/>
            <a:ext cx="3533040" cy="296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15920" y="431640"/>
            <a:ext cx="10972800" cy="2081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1015920" y="2513160"/>
            <a:ext cx="10972800" cy="62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15920" y="431640"/>
            <a:ext cx="10972800" cy="2081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015920" y="2513160"/>
            <a:ext cx="10972800" cy="6224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15920" y="431640"/>
            <a:ext cx="10972800" cy="2081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15920" y="2513160"/>
            <a:ext cx="5354640" cy="6224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638760" y="2513160"/>
            <a:ext cx="5354640" cy="6224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15920" y="431640"/>
            <a:ext cx="10972800" cy="2081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5b5648"/>
              </a:solidFill>
              <a:latin typeface="Copperplate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1015920" y="431640"/>
            <a:ext cx="10972800" cy="965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015920" y="431640"/>
            <a:ext cx="10972800" cy="2081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015920" y="2513160"/>
            <a:ext cx="5354640" cy="296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638760" y="2513160"/>
            <a:ext cx="5354640" cy="6224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1015920" y="5764680"/>
            <a:ext cx="5354640" cy="296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15920" y="431640"/>
            <a:ext cx="10972800" cy="2081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15920" y="2513160"/>
            <a:ext cx="5354640" cy="6224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8760" y="2513160"/>
            <a:ext cx="5354640" cy="296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8760" y="5764680"/>
            <a:ext cx="5354640" cy="296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15920" y="431640"/>
            <a:ext cx="10972800" cy="2081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015920" y="2513160"/>
            <a:ext cx="5354640" cy="6224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6638760" y="2513160"/>
            <a:ext cx="5354640" cy="296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638760" y="5764680"/>
            <a:ext cx="5354640" cy="296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015920" y="431640"/>
            <a:ext cx="10972800" cy="2081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015920" y="2513160"/>
            <a:ext cx="5354640" cy="296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638760" y="2513160"/>
            <a:ext cx="5354640" cy="296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015920" y="5764680"/>
            <a:ext cx="10972800" cy="296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15920" y="431640"/>
            <a:ext cx="10972800" cy="2081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015920" y="2513160"/>
            <a:ext cx="10972800" cy="296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1015920" y="5764680"/>
            <a:ext cx="10972800" cy="296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015920" y="431640"/>
            <a:ext cx="10972800" cy="2081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015920" y="2513160"/>
            <a:ext cx="5354640" cy="296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6638760" y="2513160"/>
            <a:ext cx="5354640" cy="296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1015920" y="5764680"/>
            <a:ext cx="5354640" cy="296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6638760" y="5764680"/>
            <a:ext cx="5354640" cy="296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015920" y="431640"/>
            <a:ext cx="10972800" cy="2081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015920" y="2513160"/>
            <a:ext cx="3533040" cy="296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726080" y="2513160"/>
            <a:ext cx="3533040" cy="296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8436240" y="2513160"/>
            <a:ext cx="3533040" cy="296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1015920" y="5764680"/>
            <a:ext cx="3533040" cy="296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4726080" y="5764680"/>
            <a:ext cx="3533040" cy="296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8436240" y="5764680"/>
            <a:ext cx="3533040" cy="296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015920" y="431640"/>
            <a:ext cx="10972800" cy="2081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1015920" y="2513160"/>
            <a:ext cx="10972800" cy="62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015920" y="431640"/>
            <a:ext cx="10972800" cy="2081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015920" y="2513160"/>
            <a:ext cx="10972800" cy="6224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015920" y="431640"/>
            <a:ext cx="10972800" cy="2081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015920" y="2513160"/>
            <a:ext cx="5354640" cy="6224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6638760" y="2513160"/>
            <a:ext cx="5354640" cy="6224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15920" y="431640"/>
            <a:ext cx="10972800" cy="2081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5b5648"/>
              </a:solidFill>
              <a:latin typeface="Copperplate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15920" y="431640"/>
            <a:ext cx="10972800" cy="2081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15920" y="2513160"/>
            <a:ext cx="5354640" cy="296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8760" y="2513160"/>
            <a:ext cx="5354640" cy="296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15920" y="5764680"/>
            <a:ext cx="10972800" cy="296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1015920" y="431640"/>
            <a:ext cx="10972800" cy="965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015920" y="431640"/>
            <a:ext cx="10972800" cy="2081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015920" y="2513160"/>
            <a:ext cx="5354640" cy="296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6638760" y="2513160"/>
            <a:ext cx="5354640" cy="6224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1015920" y="5764680"/>
            <a:ext cx="5354640" cy="296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15920" y="431640"/>
            <a:ext cx="10972800" cy="2081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015920" y="2513160"/>
            <a:ext cx="5354640" cy="6224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6638760" y="2513160"/>
            <a:ext cx="5354640" cy="296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638760" y="5764680"/>
            <a:ext cx="5354640" cy="296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015920" y="431640"/>
            <a:ext cx="10972800" cy="2081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015920" y="2513160"/>
            <a:ext cx="5354640" cy="296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6638760" y="2513160"/>
            <a:ext cx="5354640" cy="296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1015920" y="5764680"/>
            <a:ext cx="10972800" cy="296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015920" y="431640"/>
            <a:ext cx="10972800" cy="2081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015920" y="2513160"/>
            <a:ext cx="10972800" cy="296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1015920" y="5764680"/>
            <a:ext cx="10972800" cy="296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015920" y="431640"/>
            <a:ext cx="10972800" cy="2081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015920" y="2513160"/>
            <a:ext cx="5354640" cy="296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638760" y="2513160"/>
            <a:ext cx="5354640" cy="296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1015920" y="5764680"/>
            <a:ext cx="5354640" cy="296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6638760" y="5764680"/>
            <a:ext cx="5354640" cy="296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15920" y="431640"/>
            <a:ext cx="10972800" cy="2081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015920" y="2513160"/>
            <a:ext cx="3533040" cy="296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26080" y="2513160"/>
            <a:ext cx="3533040" cy="296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8436240" y="2513160"/>
            <a:ext cx="3533040" cy="296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1015920" y="5764680"/>
            <a:ext cx="3533040" cy="296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4726080" y="5764680"/>
            <a:ext cx="3533040" cy="296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8436240" y="5764680"/>
            <a:ext cx="3533040" cy="296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15920" y="431640"/>
            <a:ext cx="10972800" cy="2081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1015920" y="2513160"/>
            <a:ext cx="10972800" cy="62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015920" y="431640"/>
            <a:ext cx="10972800" cy="2081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015920" y="2513160"/>
            <a:ext cx="10972800" cy="6224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10972800" cy="5257800"/>
          </a:xfrm>
          <a:prstGeom prst="rect">
            <a:avLst/>
          </a:prstGeom>
          <a:noFill/>
          <a:ln w="0">
            <a:noFill/>
          </a:ln>
          <a:effectLst>
            <a:outerShdw dist="50911" dir="13500000" blurRad="0" rotWithShape="0">
              <a:srgbClr val="333333">
                <a:alpha val="50000"/>
              </a:srgbClr>
            </a:outerShdw>
          </a:effectLst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500" spc="-1" strike="noStrike">
                <a:solidFill>
                  <a:srgbClr val="fffbef"/>
                </a:solidFill>
                <a:latin typeface="Copperplate"/>
              </a:rPr>
              <a:t>Click to edit the title text format</a:t>
            </a:r>
            <a:endParaRPr b="0" lang="en-US" sz="10500" spc="-1" strike="noStrike">
              <a:solidFill>
                <a:srgbClr val="fffbef"/>
              </a:solidFill>
              <a:latin typeface="Copperplat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15920" y="5359320"/>
            <a:ext cx="10972800" cy="3670560"/>
          </a:xfrm>
          <a:prstGeom prst="rect">
            <a:avLst/>
          </a:prstGeom>
          <a:noFill/>
          <a:ln w="0">
            <a:noFill/>
          </a:ln>
          <a:effectLst>
            <a:outerShdw dist="25455" dir="13500000" blurRad="0" rotWithShape="0">
              <a:srgbClr val="333333">
                <a:alpha val="50000"/>
              </a:srgbClr>
            </a:outerShdw>
          </a:effectLst>
        </p:spPr>
        <p:txBody>
          <a:bodyPr lIns="50760" rIns="50760" tIns="50760" bIns="50760" anchor="t">
            <a:normAutofit fontScale="79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bef"/>
                </a:solidFill>
                <a:latin typeface="Copperplate"/>
              </a:rPr>
              <a:t>Click to edit the outline text format</a:t>
            </a:r>
            <a:endParaRPr b="0" lang="en-US" sz="4200" spc="-1" strike="noStrike">
              <a:solidFill>
                <a:srgbClr val="fffbef"/>
              </a:solidFill>
              <a:latin typeface="Copperplate"/>
            </a:endParaRPr>
          </a:p>
          <a:p>
            <a:pPr lvl="1" algn="ctr">
              <a:buClr>
                <a:srgbClr val="fffbef"/>
              </a:buClr>
              <a:buFont typeface="Copperplat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bef"/>
                </a:solidFill>
                <a:latin typeface="Copperplate"/>
              </a:rPr>
              <a:t>Second Outline Level</a:t>
            </a:r>
            <a:endParaRPr b="0" lang="en-US" sz="4200" spc="-1" strike="noStrike">
              <a:solidFill>
                <a:srgbClr val="fffbef"/>
              </a:solidFill>
              <a:latin typeface="Copperplate"/>
            </a:endParaRPr>
          </a:p>
          <a:p>
            <a:pPr lvl="2" algn="ctr">
              <a:buClr>
                <a:srgbClr val="fffbef"/>
              </a:buClr>
              <a:buFont typeface="Copperplat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bef"/>
                </a:solidFill>
                <a:latin typeface="Copperplate"/>
              </a:rPr>
              <a:t>Third Outline Level</a:t>
            </a:r>
            <a:endParaRPr b="0" lang="en-US" sz="4200" spc="-1" strike="noStrike">
              <a:solidFill>
                <a:srgbClr val="fffbef"/>
              </a:solidFill>
              <a:latin typeface="Copperplate"/>
            </a:endParaRPr>
          </a:p>
          <a:p>
            <a:pPr lvl="3" algn="ctr">
              <a:buClr>
                <a:srgbClr val="fffbef"/>
              </a:buClr>
              <a:buFont typeface="Copperplat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bef"/>
                </a:solidFill>
                <a:latin typeface="Copperplate"/>
              </a:rPr>
              <a:t>Fourth Outline Level</a:t>
            </a:r>
            <a:endParaRPr b="0" lang="en-US" sz="4200" spc="-1" strike="noStrike">
              <a:solidFill>
                <a:srgbClr val="fffbef"/>
              </a:solidFill>
              <a:latin typeface="Copperplate"/>
            </a:endParaRPr>
          </a:p>
          <a:p>
            <a:pPr lvl="4" algn="ctr">
              <a:buClr>
                <a:srgbClr val="fffbef"/>
              </a:buClr>
              <a:buFont typeface="Copperplat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bef"/>
                </a:solidFill>
                <a:latin typeface="Copperplate"/>
              </a:rPr>
              <a:t>Fifth Outline Level</a:t>
            </a:r>
            <a:endParaRPr b="0" lang="en-US" sz="4200" spc="-1" strike="noStrike">
              <a:solidFill>
                <a:srgbClr val="fffbef"/>
              </a:solidFill>
              <a:latin typeface="Copperplate"/>
            </a:endParaRPr>
          </a:p>
          <a:p>
            <a:pPr lvl="5" algn="ctr">
              <a:buClr>
                <a:srgbClr val="5b5648"/>
              </a:buClr>
              <a:buFont typeface="Copperplat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bef"/>
                </a:solidFill>
                <a:latin typeface="Copperplate"/>
              </a:rPr>
              <a:t>Sixth Outline Level</a:t>
            </a:r>
            <a:endParaRPr b="0" lang="en-US" sz="4200" spc="-1" strike="noStrike">
              <a:solidFill>
                <a:srgbClr val="fffbef"/>
              </a:solidFill>
              <a:latin typeface="Copperplate"/>
            </a:endParaRPr>
          </a:p>
          <a:p>
            <a:pPr lvl="6" algn="ctr">
              <a:buClr>
                <a:srgbClr val="5b5648"/>
              </a:buClr>
              <a:buFont typeface="Copperplat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bef"/>
                </a:solidFill>
                <a:latin typeface="Copperplate"/>
              </a:rPr>
              <a:t>Seventh Outline Level</a:t>
            </a:r>
            <a:endParaRPr b="0" lang="en-US" sz="4200" spc="-1" strike="noStrike">
              <a:solidFill>
                <a:srgbClr val="fffbef"/>
              </a:solidFill>
              <a:latin typeface="Copperplat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body"/>
          </p:nvPr>
        </p:nvSpPr>
        <p:spPr>
          <a:xfrm>
            <a:off x="1015920" y="1270080"/>
            <a:ext cx="1097280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5000"/>
          </a:bodyPr>
          <a:p>
            <a:pPr marL="323640" indent="-323640">
              <a:spcBef>
                <a:spcPts val="5301"/>
              </a:spcBef>
              <a:buClr>
                <a:srgbClr val="908971"/>
              </a:buClr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648"/>
                </a:solidFill>
                <a:latin typeface="Baskerville"/>
              </a:rPr>
              <a:t>Click to edit the outline text format</a:t>
            </a: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  <a:p>
            <a:pPr lvl="1" marL="885240" indent="-324000">
              <a:spcBef>
                <a:spcPts val="5301"/>
              </a:spcBef>
              <a:buClr>
                <a:srgbClr val="908971"/>
              </a:buClr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648"/>
                </a:solidFill>
                <a:latin typeface="Baskerville"/>
              </a:rPr>
              <a:t>Second Outline Level</a:t>
            </a: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  <a:p>
            <a:pPr lvl="2" marL="1262880" indent="-324000">
              <a:spcBef>
                <a:spcPts val="5301"/>
              </a:spcBef>
              <a:buClr>
                <a:srgbClr val="908971"/>
              </a:buClr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648"/>
                </a:solidFill>
                <a:latin typeface="Baskerville"/>
              </a:rPr>
              <a:t>Third Outline Level</a:t>
            </a: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  <a:p>
            <a:pPr lvl="3" marL="1640520" indent="-323640">
              <a:spcBef>
                <a:spcPts val="5301"/>
              </a:spcBef>
              <a:buClr>
                <a:srgbClr val="908971"/>
              </a:buClr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648"/>
                </a:solidFill>
                <a:latin typeface="Baskerville"/>
              </a:rPr>
              <a:t>Fourth Outline Level</a:t>
            </a: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  <a:p>
            <a:pPr lvl="4" marL="2018520" indent="-323640">
              <a:spcBef>
                <a:spcPts val="5301"/>
              </a:spcBef>
              <a:buClr>
                <a:srgbClr val="908971"/>
              </a:buClr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648"/>
                </a:solidFill>
                <a:latin typeface="Baskerville"/>
              </a:rPr>
              <a:t>Fifth Outline Level</a:t>
            </a: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  <a:p>
            <a:pPr lvl="5" marL="2018520" indent="-323640">
              <a:spcBef>
                <a:spcPts val="5301"/>
              </a:spcBef>
              <a:buClr>
                <a:srgbClr val="5b5648"/>
              </a:buClr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648"/>
                </a:solidFill>
                <a:latin typeface="Baskerville"/>
              </a:rPr>
              <a:t>Sixth Outline Level</a:t>
            </a: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  <a:p>
            <a:pPr lvl="6" marL="2018520" indent="-323640">
              <a:spcBef>
                <a:spcPts val="5301"/>
              </a:spcBef>
              <a:buClr>
                <a:srgbClr val="5b5648"/>
              </a:buClr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648"/>
                </a:solidFill>
                <a:latin typeface="Baskerville"/>
              </a:rPr>
              <a:t>Seventh Outline Level</a:t>
            </a: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015920" y="176040"/>
            <a:ext cx="10972800" cy="2592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5b5648"/>
                </a:solidFill>
                <a:latin typeface="Copperplate"/>
              </a:rPr>
              <a:t>Click to edit the title text format</a:t>
            </a:r>
            <a:endParaRPr b="0" lang="en-US" sz="72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1015920" y="2768760"/>
            <a:ext cx="10972800" cy="6984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80880" indent="-380880">
              <a:spcBef>
                <a:spcPts val="3399"/>
              </a:spcBef>
              <a:buClr>
                <a:srgbClr val="908971"/>
              </a:buClr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b5648"/>
                </a:solidFill>
                <a:latin typeface="Baskerville"/>
              </a:rPr>
              <a:t>Click to edit the outline text format</a:t>
            </a:r>
            <a:endParaRPr b="0" lang="en-US" sz="3400" spc="-1" strike="noStrike">
              <a:solidFill>
                <a:srgbClr val="5b5648"/>
              </a:solidFill>
              <a:latin typeface="Baskerville"/>
            </a:endParaRPr>
          </a:p>
          <a:p>
            <a:pPr lvl="1" marL="1041480" indent="-381240">
              <a:spcBef>
                <a:spcPts val="3399"/>
              </a:spcBef>
              <a:buClr>
                <a:srgbClr val="908971"/>
              </a:buClr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b5648"/>
                </a:solidFill>
                <a:latin typeface="Baskerville"/>
              </a:rPr>
              <a:t>Second Outline Level</a:t>
            </a:r>
            <a:endParaRPr b="0" lang="en-US" sz="3400" spc="-1" strike="noStrike">
              <a:solidFill>
                <a:srgbClr val="5b5648"/>
              </a:solidFill>
              <a:latin typeface="Baskerville"/>
            </a:endParaRPr>
          </a:p>
          <a:p>
            <a:pPr lvl="2" marL="1486080" indent="-381240">
              <a:spcBef>
                <a:spcPts val="3399"/>
              </a:spcBef>
              <a:buClr>
                <a:srgbClr val="908971"/>
              </a:buClr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b5648"/>
                </a:solidFill>
                <a:latin typeface="Baskerville"/>
              </a:rPr>
              <a:t>Third Outline Level</a:t>
            </a:r>
            <a:endParaRPr b="0" lang="en-US" sz="3400" spc="-1" strike="noStrike">
              <a:solidFill>
                <a:srgbClr val="5b5648"/>
              </a:solidFill>
              <a:latin typeface="Baskerville"/>
            </a:endParaRPr>
          </a:p>
          <a:p>
            <a:pPr lvl="3" marL="1930320" indent="-380880">
              <a:spcBef>
                <a:spcPts val="3399"/>
              </a:spcBef>
              <a:buClr>
                <a:srgbClr val="908971"/>
              </a:buClr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b5648"/>
                </a:solidFill>
                <a:latin typeface="Baskerville"/>
              </a:rPr>
              <a:t>Fourth Outline Level</a:t>
            </a:r>
            <a:endParaRPr b="0" lang="en-US" sz="3400" spc="-1" strike="noStrike">
              <a:solidFill>
                <a:srgbClr val="5b5648"/>
              </a:solidFill>
              <a:latin typeface="Baskerville"/>
            </a:endParaRPr>
          </a:p>
          <a:p>
            <a:pPr lvl="4" marL="2374920" indent="-380880">
              <a:spcBef>
                <a:spcPts val="3399"/>
              </a:spcBef>
              <a:buClr>
                <a:srgbClr val="908971"/>
              </a:buClr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b5648"/>
                </a:solidFill>
                <a:latin typeface="Baskerville"/>
              </a:rPr>
              <a:t>Fifth Outline Level</a:t>
            </a:r>
            <a:endParaRPr b="0" lang="en-US" sz="3400" spc="-1" strike="noStrike">
              <a:solidFill>
                <a:srgbClr val="5b5648"/>
              </a:solidFill>
              <a:latin typeface="Baskerville"/>
            </a:endParaRPr>
          </a:p>
          <a:p>
            <a:pPr lvl="5" marL="2374920" indent="-380880">
              <a:spcBef>
                <a:spcPts val="3399"/>
              </a:spcBef>
              <a:buClr>
                <a:srgbClr val="5b5648"/>
              </a:buClr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b5648"/>
                </a:solidFill>
                <a:latin typeface="Baskerville"/>
              </a:rPr>
              <a:t>Sixth Outline Level</a:t>
            </a:r>
            <a:endParaRPr b="0" lang="en-US" sz="3400" spc="-1" strike="noStrike">
              <a:solidFill>
                <a:srgbClr val="5b5648"/>
              </a:solidFill>
              <a:latin typeface="Baskerville"/>
            </a:endParaRPr>
          </a:p>
          <a:p>
            <a:pPr lvl="6" marL="2374920" indent="-380880">
              <a:spcBef>
                <a:spcPts val="3399"/>
              </a:spcBef>
              <a:buClr>
                <a:srgbClr val="5b5648"/>
              </a:buClr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b5648"/>
                </a:solidFill>
                <a:latin typeface="Baskerville"/>
              </a:rPr>
              <a:t>Seventh Outline Level</a:t>
            </a:r>
            <a:endParaRPr b="0" lang="en-US" sz="34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15920" y="431640"/>
            <a:ext cx="10972800" cy="2081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5b5648"/>
                </a:solidFill>
                <a:latin typeface="Copperplate"/>
              </a:rPr>
              <a:t>Click to edit the title text format</a:t>
            </a:r>
            <a:endParaRPr b="0" lang="en-US" sz="72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015920" y="2513160"/>
            <a:ext cx="10972800" cy="6224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353880" indent="-353880">
              <a:spcBef>
                <a:spcPts val="2999"/>
              </a:spcBef>
              <a:buClr>
                <a:srgbClr val="908971"/>
              </a:buClr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648"/>
                </a:solidFill>
                <a:latin typeface="Baskerville"/>
              </a:rPr>
              <a:t>Click to edit the outline text format</a:t>
            </a: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  <a:p>
            <a:pPr lvl="1" marL="968400" indent="-354240">
              <a:spcBef>
                <a:spcPts val="2999"/>
              </a:spcBef>
              <a:buClr>
                <a:srgbClr val="908971"/>
              </a:buClr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648"/>
                </a:solidFill>
                <a:latin typeface="Baskerville"/>
              </a:rPr>
              <a:t>Second Outline Level</a:t>
            </a: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  <a:p>
            <a:pPr lvl="2" marL="1382040" indent="-354240">
              <a:spcBef>
                <a:spcPts val="2999"/>
              </a:spcBef>
              <a:buClr>
                <a:srgbClr val="908971"/>
              </a:buClr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648"/>
                </a:solidFill>
                <a:latin typeface="Baskerville"/>
              </a:rPr>
              <a:t>Third Outline Level</a:t>
            </a: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  <a:p>
            <a:pPr lvl="3" marL="1794960" indent="-353880">
              <a:spcBef>
                <a:spcPts val="2999"/>
              </a:spcBef>
              <a:buClr>
                <a:srgbClr val="908971"/>
              </a:buClr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648"/>
                </a:solidFill>
                <a:latin typeface="Baskerville"/>
              </a:rPr>
              <a:t>Fourth Outline Level</a:t>
            </a: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  <a:p>
            <a:pPr lvl="4" marL="2208600" indent="-353880">
              <a:spcBef>
                <a:spcPts val="2999"/>
              </a:spcBef>
              <a:buClr>
                <a:srgbClr val="908971"/>
              </a:buClr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648"/>
                </a:solidFill>
                <a:latin typeface="Baskerville"/>
              </a:rPr>
              <a:t>Fifth Outline Level</a:t>
            </a: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  <a:p>
            <a:pPr lvl="5" marL="2208600" indent="-353880">
              <a:spcBef>
                <a:spcPts val="2999"/>
              </a:spcBef>
              <a:buClr>
                <a:srgbClr val="5b5648"/>
              </a:buClr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648"/>
                </a:solidFill>
                <a:latin typeface="Baskerville"/>
              </a:rPr>
              <a:t>Sixth Outline Level</a:t>
            </a: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  <a:p>
            <a:pPr lvl="6" marL="2208600" indent="-353880">
              <a:spcBef>
                <a:spcPts val="2999"/>
              </a:spcBef>
              <a:buClr>
                <a:srgbClr val="5b5648"/>
              </a:buClr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648"/>
                </a:solidFill>
                <a:latin typeface="Baskerville"/>
              </a:rPr>
              <a:t>Seventh Outline Level</a:t>
            </a: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15920" y="431640"/>
            <a:ext cx="10972800" cy="2081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5b5648"/>
                </a:solidFill>
                <a:latin typeface="Copperplate"/>
              </a:rPr>
              <a:t>Click to edit the title text format</a:t>
            </a:r>
            <a:endParaRPr b="0" lang="en-US" sz="72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7797600" y="2513160"/>
            <a:ext cx="4190760" cy="6224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7000"/>
          </a:bodyPr>
          <a:p>
            <a:pPr marL="254880" indent="-254880">
              <a:spcBef>
                <a:spcPts val="3801"/>
              </a:spcBef>
              <a:buClr>
                <a:srgbClr val="908971"/>
              </a:buClr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b5648"/>
                </a:solidFill>
                <a:latin typeface="Baskerville"/>
              </a:rPr>
              <a:t>Click to edit the outline text format</a:t>
            </a:r>
            <a:endParaRPr b="0" lang="en-US" sz="3400" spc="-1" strike="noStrike">
              <a:solidFill>
                <a:srgbClr val="5b5648"/>
              </a:solidFill>
              <a:latin typeface="Baskerville"/>
            </a:endParaRPr>
          </a:p>
          <a:p>
            <a:pPr lvl="1" marL="697680" indent="-255240">
              <a:spcBef>
                <a:spcPts val="3801"/>
              </a:spcBef>
              <a:buClr>
                <a:srgbClr val="908971"/>
              </a:buClr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b5648"/>
                </a:solidFill>
                <a:latin typeface="Baskerville"/>
              </a:rPr>
              <a:t>Second Outline Level</a:t>
            </a:r>
            <a:endParaRPr b="0" lang="en-US" sz="3400" spc="-1" strike="noStrike">
              <a:solidFill>
                <a:srgbClr val="5b5648"/>
              </a:solidFill>
              <a:latin typeface="Baskerville"/>
            </a:endParaRPr>
          </a:p>
          <a:p>
            <a:pPr lvl="2" marL="995400" indent="-255240">
              <a:spcBef>
                <a:spcPts val="3801"/>
              </a:spcBef>
              <a:buClr>
                <a:srgbClr val="908971"/>
              </a:buClr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b5648"/>
                </a:solidFill>
                <a:latin typeface="Baskerville"/>
              </a:rPr>
              <a:t>Third Outline Level</a:t>
            </a:r>
            <a:endParaRPr b="0" lang="en-US" sz="3400" spc="-1" strike="noStrike">
              <a:solidFill>
                <a:srgbClr val="5b5648"/>
              </a:solidFill>
              <a:latin typeface="Baskerville"/>
            </a:endParaRPr>
          </a:p>
          <a:p>
            <a:pPr lvl="3" marL="1293120" indent="-254880">
              <a:spcBef>
                <a:spcPts val="3801"/>
              </a:spcBef>
              <a:buClr>
                <a:srgbClr val="908971"/>
              </a:buClr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b5648"/>
                </a:solidFill>
                <a:latin typeface="Baskerville"/>
              </a:rPr>
              <a:t>Fourth Outline Level</a:t>
            </a:r>
            <a:endParaRPr b="0" lang="en-US" sz="3400" spc="-1" strike="noStrike">
              <a:solidFill>
                <a:srgbClr val="5b5648"/>
              </a:solidFill>
              <a:latin typeface="Baskerville"/>
            </a:endParaRPr>
          </a:p>
          <a:p>
            <a:pPr lvl="4" marL="1590840" indent="-254880">
              <a:spcBef>
                <a:spcPts val="3801"/>
              </a:spcBef>
              <a:buClr>
                <a:srgbClr val="908971"/>
              </a:buClr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b5648"/>
                </a:solidFill>
                <a:latin typeface="Baskerville"/>
              </a:rPr>
              <a:t>Fifth Outline Level</a:t>
            </a:r>
            <a:endParaRPr b="0" lang="en-US" sz="3400" spc="-1" strike="noStrike">
              <a:solidFill>
                <a:srgbClr val="5b5648"/>
              </a:solidFill>
              <a:latin typeface="Baskerville"/>
            </a:endParaRPr>
          </a:p>
          <a:p>
            <a:pPr lvl="5" marL="1590840" indent="-254880">
              <a:spcBef>
                <a:spcPts val="3801"/>
              </a:spcBef>
              <a:buClr>
                <a:srgbClr val="5b5648"/>
              </a:buClr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b5648"/>
                </a:solidFill>
                <a:latin typeface="Baskerville"/>
              </a:rPr>
              <a:t>Sixth Outline Level</a:t>
            </a:r>
            <a:endParaRPr b="0" lang="en-US" sz="3400" spc="-1" strike="noStrike">
              <a:solidFill>
                <a:srgbClr val="5b5648"/>
              </a:solidFill>
              <a:latin typeface="Baskerville"/>
            </a:endParaRPr>
          </a:p>
          <a:p>
            <a:pPr lvl="6" marL="1590840" indent="-254880">
              <a:spcBef>
                <a:spcPts val="3801"/>
              </a:spcBef>
              <a:buClr>
                <a:srgbClr val="5b5648"/>
              </a:buClr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b5648"/>
                </a:solidFill>
                <a:latin typeface="Baskerville"/>
              </a:rPr>
              <a:t>Seventh Outline Level</a:t>
            </a:r>
            <a:endParaRPr b="0" lang="en-US" sz="34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15920" y="431640"/>
            <a:ext cx="10972800" cy="2081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5b5648"/>
                </a:solidFill>
                <a:latin typeface="Copperplate"/>
              </a:rPr>
              <a:t>Click to edit the title text format</a:t>
            </a:r>
            <a:endParaRPr b="0" lang="en-US" sz="72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1015920" y="2513160"/>
            <a:ext cx="5486400" cy="6224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1000"/>
          </a:bodyPr>
          <a:p>
            <a:pPr marL="308160" indent="-308160">
              <a:spcBef>
                <a:spcPts val="3801"/>
              </a:spcBef>
              <a:buClr>
                <a:srgbClr val="908971"/>
              </a:buClr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b5648"/>
                </a:solidFill>
                <a:latin typeface="Baskerville"/>
              </a:rPr>
              <a:t>Click to edit the outline text format</a:t>
            </a:r>
            <a:endParaRPr b="0" lang="en-US" sz="3400" spc="-1" strike="noStrike">
              <a:solidFill>
                <a:srgbClr val="5b5648"/>
              </a:solidFill>
              <a:latin typeface="Baskerville"/>
            </a:endParaRPr>
          </a:p>
          <a:p>
            <a:pPr lvl="1" marL="843480" indent="-308520">
              <a:spcBef>
                <a:spcPts val="3801"/>
              </a:spcBef>
              <a:buClr>
                <a:srgbClr val="908971"/>
              </a:buClr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b5648"/>
                </a:solidFill>
                <a:latin typeface="Baskerville"/>
              </a:rPr>
              <a:t>Second Outline Level</a:t>
            </a:r>
            <a:endParaRPr b="0" lang="en-US" sz="3400" spc="-1" strike="noStrike">
              <a:solidFill>
                <a:srgbClr val="5b5648"/>
              </a:solidFill>
              <a:latin typeface="Baskerville"/>
            </a:endParaRPr>
          </a:p>
          <a:p>
            <a:pPr lvl="2" marL="1203480" indent="-308520">
              <a:spcBef>
                <a:spcPts val="3801"/>
              </a:spcBef>
              <a:buClr>
                <a:srgbClr val="908971"/>
              </a:buClr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b5648"/>
                </a:solidFill>
                <a:latin typeface="Baskerville"/>
              </a:rPr>
              <a:t>Third Outline Level</a:t>
            </a:r>
            <a:endParaRPr b="0" lang="en-US" sz="3400" spc="-1" strike="noStrike">
              <a:solidFill>
                <a:srgbClr val="5b5648"/>
              </a:solidFill>
              <a:latin typeface="Baskerville"/>
            </a:endParaRPr>
          </a:p>
          <a:p>
            <a:pPr lvl="3" marL="1563480" indent="-308160">
              <a:spcBef>
                <a:spcPts val="3801"/>
              </a:spcBef>
              <a:buClr>
                <a:srgbClr val="908971"/>
              </a:buClr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b5648"/>
                </a:solidFill>
                <a:latin typeface="Baskerville"/>
              </a:rPr>
              <a:t>Fourth Outline Level</a:t>
            </a:r>
            <a:endParaRPr b="0" lang="en-US" sz="3400" spc="-1" strike="noStrike">
              <a:solidFill>
                <a:srgbClr val="5b5648"/>
              </a:solidFill>
              <a:latin typeface="Baskerville"/>
            </a:endParaRPr>
          </a:p>
          <a:p>
            <a:pPr lvl="4" marL="1923480" indent="-308160">
              <a:spcBef>
                <a:spcPts val="3801"/>
              </a:spcBef>
              <a:buClr>
                <a:srgbClr val="908971"/>
              </a:buClr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b5648"/>
                </a:solidFill>
                <a:latin typeface="Baskerville"/>
              </a:rPr>
              <a:t>Fifth Outline Level</a:t>
            </a:r>
            <a:endParaRPr b="0" lang="en-US" sz="3400" spc="-1" strike="noStrike">
              <a:solidFill>
                <a:srgbClr val="5b5648"/>
              </a:solidFill>
              <a:latin typeface="Baskerville"/>
            </a:endParaRPr>
          </a:p>
          <a:p>
            <a:pPr lvl="5" marL="1923480" indent="-308160">
              <a:spcBef>
                <a:spcPts val="3801"/>
              </a:spcBef>
              <a:buClr>
                <a:srgbClr val="5b5648"/>
              </a:buClr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b5648"/>
                </a:solidFill>
                <a:latin typeface="Baskerville"/>
              </a:rPr>
              <a:t>Sixth Outline Level</a:t>
            </a:r>
            <a:endParaRPr b="0" lang="en-US" sz="3400" spc="-1" strike="noStrike">
              <a:solidFill>
                <a:srgbClr val="5b5648"/>
              </a:solidFill>
              <a:latin typeface="Baskerville"/>
            </a:endParaRPr>
          </a:p>
          <a:p>
            <a:pPr lvl="6" marL="1923480" indent="-308160">
              <a:spcBef>
                <a:spcPts val="3801"/>
              </a:spcBef>
              <a:buClr>
                <a:srgbClr val="5b5648"/>
              </a:buClr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b5648"/>
                </a:solidFill>
                <a:latin typeface="Baskerville"/>
              </a:rPr>
              <a:t>Seventh Outline Level</a:t>
            </a:r>
            <a:endParaRPr b="0" lang="en-US" sz="34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5b5648"/>
                </a:solidFill>
                <a:latin typeface="Copperplate"/>
              </a:rPr>
              <a:t>Click to edit the title text format</a:t>
            </a:r>
            <a:endParaRPr b="0" lang="en-US" sz="7200" spc="-1" strike="noStrike">
              <a:solidFill>
                <a:srgbClr val="5b5648"/>
              </a:solidFill>
              <a:latin typeface="Copperplat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15920" y="3263400"/>
            <a:ext cx="10972800" cy="3225960"/>
          </a:xfrm>
          <a:prstGeom prst="rect">
            <a:avLst/>
          </a:prstGeom>
          <a:noFill/>
          <a:ln w="0">
            <a:noFill/>
          </a:ln>
          <a:effectLst>
            <a:outerShdw dist="50911" dir="13500000" blurRad="0" rotWithShape="0">
              <a:srgbClr val="333333">
                <a:alpha val="50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500" spc="-1" strike="noStrike">
                <a:solidFill>
                  <a:srgbClr val="fffbef"/>
                </a:solidFill>
                <a:latin typeface="Copperplate"/>
              </a:rPr>
              <a:t>Click to edit the title text format</a:t>
            </a:r>
            <a:endParaRPr b="0" lang="en-US" sz="10500" spc="-1" strike="noStrike">
              <a:solidFill>
                <a:srgbClr val="fffbef"/>
              </a:solidFill>
              <a:latin typeface="Copperplat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015920" y="431640"/>
            <a:ext cx="10972800" cy="2081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5b5648"/>
                </a:solidFill>
                <a:latin typeface="Copperplate"/>
              </a:rPr>
              <a:t>Click to edit the title text format</a:t>
            </a:r>
            <a:endParaRPr b="0" lang="en-US" sz="72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1015920" y="2513160"/>
            <a:ext cx="5486400" cy="6224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1000"/>
          </a:bodyPr>
          <a:p>
            <a:pPr marL="308160" indent="-308160">
              <a:spcBef>
                <a:spcPts val="3801"/>
              </a:spcBef>
              <a:buClr>
                <a:srgbClr val="908971"/>
              </a:buClr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b5648"/>
                </a:solidFill>
                <a:latin typeface="Baskerville"/>
              </a:rPr>
              <a:t>Click to edit the outline text format</a:t>
            </a:r>
            <a:endParaRPr b="0" lang="en-US" sz="3400" spc="-1" strike="noStrike">
              <a:solidFill>
                <a:srgbClr val="5b5648"/>
              </a:solidFill>
              <a:latin typeface="Baskerville"/>
            </a:endParaRPr>
          </a:p>
          <a:p>
            <a:pPr lvl="1" marL="843480" indent="-308520">
              <a:spcBef>
                <a:spcPts val="3801"/>
              </a:spcBef>
              <a:buClr>
                <a:srgbClr val="908971"/>
              </a:buClr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b5648"/>
                </a:solidFill>
                <a:latin typeface="Baskerville"/>
              </a:rPr>
              <a:t>Second Outline Level</a:t>
            </a:r>
            <a:endParaRPr b="0" lang="en-US" sz="3400" spc="-1" strike="noStrike">
              <a:solidFill>
                <a:srgbClr val="5b5648"/>
              </a:solidFill>
              <a:latin typeface="Baskerville"/>
            </a:endParaRPr>
          </a:p>
          <a:p>
            <a:pPr lvl="2" marL="1203480" indent="-308520">
              <a:spcBef>
                <a:spcPts val="3801"/>
              </a:spcBef>
              <a:buClr>
                <a:srgbClr val="908971"/>
              </a:buClr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b5648"/>
                </a:solidFill>
                <a:latin typeface="Baskerville"/>
              </a:rPr>
              <a:t>Third Outline Level</a:t>
            </a:r>
            <a:endParaRPr b="0" lang="en-US" sz="3400" spc="-1" strike="noStrike">
              <a:solidFill>
                <a:srgbClr val="5b5648"/>
              </a:solidFill>
              <a:latin typeface="Baskerville"/>
            </a:endParaRPr>
          </a:p>
          <a:p>
            <a:pPr lvl="3" marL="1563480" indent="-308160">
              <a:spcBef>
                <a:spcPts val="3801"/>
              </a:spcBef>
              <a:buClr>
                <a:srgbClr val="908971"/>
              </a:buClr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b5648"/>
                </a:solidFill>
                <a:latin typeface="Baskerville"/>
              </a:rPr>
              <a:t>Fourth Outline Level</a:t>
            </a:r>
            <a:endParaRPr b="0" lang="en-US" sz="3400" spc="-1" strike="noStrike">
              <a:solidFill>
                <a:srgbClr val="5b5648"/>
              </a:solidFill>
              <a:latin typeface="Baskerville"/>
            </a:endParaRPr>
          </a:p>
          <a:p>
            <a:pPr lvl="4" marL="1923480" indent="-308160">
              <a:spcBef>
                <a:spcPts val="3801"/>
              </a:spcBef>
              <a:buClr>
                <a:srgbClr val="908971"/>
              </a:buClr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b5648"/>
                </a:solidFill>
                <a:latin typeface="Baskerville"/>
              </a:rPr>
              <a:t>Fifth Outline Level</a:t>
            </a:r>
            <a:endParaRPr b="0" lang="en-US" sz="3400" spc="-1" strike="noStrike">
              <a:solidFill>
                <a:srgbClr val="5b5648"/>
              </a:solidFill>
              <a:latin typeface="Baskerville"/>
            </a:endParaRPr>
          </a:p>
          <a:p>
            <a:pPr lvl="5" marL="1923480" indent="-308160">
              <a:spcBef>
                <a:spcPts val="3801"/>
              </a:spcBef>
              <a:buClr>
                <a:srgbClr val="5b5648"/>
              </a:buClr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b5648"/>
                </a:solidFill>
                <a:latin typeface="Baskerville"/>
              </a:rPr>
              <a:t>Sixth Outline Level</a:t>
            </a:r>
            <a:endParaRPr b="0" lang="en-US" sz="3400" spc="-1" strike="noStrike">
              <a:solidFill>
                <a:srgbClr val="5b5648"/>
              </a:solidFill>
              <a:latin typeface="Baskerville"/>
            </a:endParaRPr>
          </a:p>
          <a:p>
            <a:pPr lvl="6" marL="1923480" indent="-308160">
              <a:spcBef>
                <a:spcPts val="3801"/>
              </a:spcBef>
              <a:buClr>
                <a:srgbClr val="5b5648"/>
              </a:buClr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b5648"/>
                </a:solidFill>
                <a:latin typeface="Baskerville"/>
              </a:rPr>
              <a:t>Seventh Outline Level</a:t>
            </a:r>
            <a:endParaRPr b="0" lang="en-US" sz="34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015920" y="7797600"/>
            <a:ext cx="10972800" cy="1523880"/>
          </a:xfrm>
          <a:prstGeom prst="rect">
            <a:avLst/>
          </a:prstGeom>
          <a:noFill/>
          <a:ln w="0">
            <a:noFill/>
          </a:ln>
          <a:effectLst>
            <a:outerShdw dist="50911" dir="13500000" blurRad="0" rotWithShape="0">
              <a:srgbClr val="333333">
                <a:alpha val="50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200" spc="-1" strike="noStrike">
                <a:solidFill>
                  <a:srgbClr val="fffbef"/>
                </a:solidFill>
                <a:latin typeface="Copperplate"/>
              </a:rPr>
              <a:t>Click to edit the title text format</a:t>
            </a:r>
            <a:endParaRPr b="0" lang="en-US" sz="8200" spc="-1" strike="noStrike">
              <a:solidFill>
                <a:srgbClr val="fffbef"/>
              </a:solidFill>
              <a:latin typeface="Copperplat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5969160" cy="5105520"/>
          </a:xfrm>
          <a:prstGeom prst="rect">
            <a:avLst/>
          </a:prstGeom>
          <a:noFill/>
          <a:ln w="0">
            <a:noFill/>
          </a:ln>
          <a:effectLst>
            <a:outerShdw dist="50911" dir="13500000" blurRad="0" rotWithShape="0">
              <a:srgbClr val="333333">
                <a:alpha val="50000"/>
              </a:srgbClr>
            </a:outerShdw>
          </a:effectLst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bef"/>
                </a:solidFill>
                <a:latin typeface="Copperplate"/>
              </a:rPr>
              <a:t>Click to edit the title text format</a:t>
            </a:r>
            <a:endParaRPr b="0" lang="en-US" sz="7000" spc="-1" strike="noStrike">
              <a:solidFill>
                <a:srgbClr val="fffbef"/>
              </a:solidFill>
              <a:latin typeface="Copperplat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380520" y="5219640"/>
            <a:ext cx="5969160" cy="4533840"/>
          </a:xfrm>
          <a:prstGeom prst="rect">
            <a:avLst/>
          </a:prstGeom>
          <a:noFill/>
          <a:ln w="0">
            <a:noFill/>
          </a:ln>
          <a:effectLst>
            <a:outerShdw dist="25455" dir="13500000" blurRad="0" rotWithShape="0">
              <a:srgbClr val="333333">
                <a:alpha val="50000"/>
              </a:srgbClr>
            </a:outerShdw>
          </a:effectLst>
        </p:spPr>
        <p:txBody>
          <a:bodyPr lIns="50760" rIns="50760" tIns="50760" bIns="5076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bef"/>
                </a:solidFill>
                <a:latin typeface="Copperplate"/>
              </a:rPr>
              <a:t>Click to edit the outline text format</a:t>
            </a:r>
            <a:endParaRPr b="0" lang="en-US" sz="3600" spc="-1" strike="noStrike">
              <a:solidFill>
                <a:srgbClr val="fffbef"/>
              </a:solidFill>
              <a:latin typeface="Copperplate"/>
            </a:endParaRPr>
          </a:p>
          <a:p>
            <a:pPr lvl="1" algn="ctr">
              <a:buClr>
                <a:srgbClr val="fffbef"/>
              </a:buClr>
              <a:buFont typeface="Copperplat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bef"/>
                </a:solidFill>
                <a:latin typeface="Copperplate"/>
              </a:rPr>
              <a:t>Second Outline Level</a:t>
            </a:r>
            <a:endParaRPr b="0" lang="en-US" sz="3600" spc="-1" strike="noStrike">
              <a:solidFill>
                <a:srgbClr val="fffbef"/>
              </a:solidFill>
              <a:latin typeface="Copperplate"/>
            </a:endParaRPr>
          </a:p>
          <a:p>
            <a:pPr lvl="2" algn="ctr">
              <a:buClr>
                <a:srgbClr val="fffbef"/>
              </a:buClr>
              <a:buFont typeface="Copperplat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bef"/>
                </a:solidFill>
                <a:latin typeface="Copperplate"/>
              </a:rPr>
              <a:t>Third Outline Level</a:t>
            </a:r>
            <a:endParaRPr b="0" lang="en-US" sz="3600" spc="-1" strike="noStrike">
              <a:solidFill>
                <a:srgbClr val="fffbef"/>
              </a:solidFill>
              <a:latin typeface="Copperplate"/>
            </a:endParaRPr>
          </a:p>
          <a:p>
            <a:pPr lvl="3" algn="ctr">
              <a:buClr>
                <a:srgbClr val="fffbef"/>
              </a:buClr>
              <a:buFont typeface="Copperplat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bef"/>
                </a:solidFill>
                <a:latin typeface="Copperplate"/>
              </a:rPr>
              <a:t>Fourth Outline Level</a:t>
            </a:r>
            <a:endParaRPr b="0" lang="en-US" sz="3600" spc="-1" strike="noStrike">
              <a:solidFill>
                <a:srgbClr val="fffbef"/>
              </a:solidFill>
              <a:latin typeface="Copperplate"/>
            </a:endParaRPr>
          </a:p>
          <a:p>
            <a:pPr lvl="4" algn="ctr">
              <a:buClr>
                <a:srgbClr val="fffbef"/>
              </a:buClr>
              <a:buFont typeface="Copperplat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bef"/>
                </a:solidFill>
                <a:latin typeface="Copperplate"/>
              </a:rPr>
              <a:t>Fifth Outline Level</a:t>
            </a:r>
            <a:endParaRPr b="0" lang="en-US" sz="3600" spc="-1" strike="noStrike">
              <a:solidFill>
                <a:srgbClr val="fffbef"/>
              </a:solidFill>
              <a:latin typeface="Copperplate"/>
            </a:endParaRPr>
          </a:p>
          <a:p>
            <a:pPr lvl="5" algn="ctr">
              <a:buClr>
                <a:srgbClr val="5b5648"/>
              </a:buClr>
              <a:buFont typeface="Copperplat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bef"/>
                </a:solidFill>
                <a:latin typeface="Copperplate"/>
              </a:rPr>
              <a:t>Sixth Outline Level</a:t>
            </a:r>
            <a:endParaRPr b="0" lang="en-US" sz="3600" spc="-1" strike="noStrike">
              <a:solidFill>
                <a:srgbClr val="fffbef"/>
              </a:solidFill>
              <a:latin typeface="Copperplate"/>
            </a:endParaRPr>
          </a:p>
          <a:p>
            <a:pPr lvl="6" algn="ctr">
              <a:buClr>
                <a:srgbClr val="5b5648"/>
              </a:buClr>
              <a:buFont typeface="Copperplat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bef"/>
                </a:solidFill>
                <a:latin typeface="Copperplate"/>
              </a:rPr>
              <a:t>Seventh Outline Level</a:t>
            </a:r>
            <a:endParaRPr b="0" lang="en-US" sz="3600" spc="-1" strike="noStrike">
              <a:solidFill>
                <a:srgbClr val="fffbef"/>
              </a:solidFill>
              <a:latin typeface="Copperplat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10972800" cy="5257800"/>
          </a:xfrm>
          <a:prstGeom prst="rect">
            <a:avLst/>
          </a:prstGeom>
          <a:noFill/>
          <a:ln w="0">
            <a:noFill/>
          </a:ln>
          <a:effectLst>
            <a:outerShdw dist="50911" dir="13500000" blurRad="0" rotWithShape="0">
              <a:srgbClr val="333333">
                <a:alpha val="50000"/>
              </a:srgbClr>
            </a:outerShdw>
          </a:effectLst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bef"/>
                </a:solidFill>
                <a:latin typeface="Copperplate"/>
              </a:rPr>
              <a:t>EDIPO COMO REFERENTE CINEMATOGRÁFICO</a:t>
            </a:r>
            <a:endParaRPr b="0" lang="en-US" sz="4800" spc="-1" strike="noStrike">
              <a:solidFill>
                <a:srgbClr val="fffbef"/>
              </a:solidFill>
              <a:latin typeface="Copperplate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015920" y="5359320"/>
            <a:ext cx="10972800" cy="3670560"/>
          </a:xfrm>
          <a:prstGeom prst="rect">
            <a:avLst/>
          </a:prstGeom>
          <a:noFill/>
          <a:ln w="0">
            <a:noFill/>
          </a:ln>
          <a:effectLst>
            <a:outerShdw dist="25455" dir="13500000" blurRad="0" rotWithShape="0">
              <a:srgbClr val="333333">
                <a:alpha val="50000"/>
              </a:srgbClr>
            </a:outerShdw>
          </a:effectLst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bef"/>
              </a:solidFill>
              <a:latin typeface="Copperplate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015920" y="345960"/>
            <a:ext cx="10972800" cy="225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5b5648"/>
                </a:solidFill>
                <a:latin typeface="Copperplate"/>
              </a:rPr>
              <a:t>1</a:t>
            </a:r>
            <a:endParaRPr b="0" lang="en-US" sz="72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015920" y="2598480"/>
            <a:ext cx="10972800" cy="6484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80880" indent="-380880">
              <a:lnSpc>
                <a:spcPct val="100000"/>
              </a:lnSpc>
              <a:spcBef>
                <a:spcPts val="2999"/>
              </a:spcBef>
              <a:buClr>
                <a:srgbClr val="908971"/>
              </a:buClr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648"/>
                </a:solidFill>
                <a:latin typeface="Baskerville"/>
              </a:rPr>
              <a:t>En la historia de Edipo se produce la adopción.</a:t>
            </a: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  <a:p>
            <a:pPr marL="380880" indent="-380880">
              <a:lnSpc>
                <a:spcPct val="100000"/>
              </a:lnSpc>
              <a:spcBef>
                <a:spcPts val="2999"/>
              </a:spcBef>
              <a:buClr>
                <a:srgbClr val="908971"/>
              </a:buClr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648"/>
                </a:solidFill>
                <a:latin typeface="Baskerville"/>
              </a:rPr>
              <a:t>En una película de este referente se produce el hecho desencadenante a la tragedia.</a:t>
            </a: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pic>
        <p:nvPicPr>
          <p:cNvPr id="454" name="" descr=""/>
          <p:cNvPicPr/>
          <p:nvPr/>
        </p:nvPicPr>
        <p:blipFill>
          <a:blip r:embed="rId2"/>
          <a:stretch/>
        </p:blipFill>
        <p:spPr>
          <a:xfrm>
            <a:off x="9398160" y="2489040"/>
            <a:ext cx="3238200" cy="236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015920" y="431640"/>
            <a:ext cx="10972800" cy="2081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5b5648"/>
                </a:solidFill>
                <a:latin typeface="Copperplate"/>
              </a:rPr>
              <a:t>2</a:t>
            </a:r>
            <a:endParaRPr b="0" lang="en-US" sz="72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015920" y="2513160"/>
            <a:ext cx="10972800" cy="6224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80880" indent="-380880">
              <a:lnSpc>
                <a:spcPct val="100000"/>
              </a:lnSpc>
              <a:spcBef>
                <a:spcPts val="2999"/>
              </a:spcBef>
              <a:buClr>
                <a:srgbClr val="908971"/>
              </a:buClr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648"/>
                </a:solidFill>
                <a:latin typeface="Baskerville"/>
              </a:rPr>
              <a:t>En la historia de Edipo el coro desaconseja la investigación.</a:t>
            </a: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  <a:p>
            <a:pPr marL="380880" indent="-380880">
              <a:lnSpc>
                <a:spcPct val="100000"/>
              </a:lnSpc>
              <a:spcBef>
                <a:spcPts val="2999"/>
              </a:spcBef>
              <a:buClr>
                <a:srgbClr val="908971"/>
              </a:buClr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648"/>
                </a:solidFill>
                <a:latin typeface="Baskerville"/>
              </a:rPr>
              <a:t>En la película hay factores que la impiden.</a:t>
            </a: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pic>
        <p:nvPicPr>
          <p:cNvPr id="457" name="" descr=""/>
          <p:cNvPicPr/>
          <p:nvPr/>
        </p:nvPicPr>
        <p:blipFill>
          <a:blip r:embed="rId2"/>
          <a:stretch/>
        </p:blipFill>
        <p:spPr>
          <a:xfrm>
            <a:off x="8467560" y="6743880"/>
            <a:ext cx="3610080" cy="270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015920" y="431640"/>
            <a:ext cx="10972800" cy="2081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5b5648"/>
                </a:solidFill>
                <a:latin typeface="Copperplate"/>
              </a:rPr>
              <a:t>3</a:t>
            </a:r>
            <a:endParaRPr b="0" lang="en-US" sz="72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015920" y="2513160"/>
            <a:ext cx="10972800" cy="6224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80880" indent="-380880">
              <a:lnSpc>
                <a:spcPct val="100000"/>
              </a:lnSpc>
              <a:spcBef>
                <a:spcPts val="2999"/>
              </a:spcBef>
              <a:buClr>
                <a:srgbClr val="908971"/>
              </a:buClr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648"/>
                </a:solidFill>
                <a:latin typeface="Baskerville"/>
              </a:rPr>
              <a:t>La investigación da sus frutos, se conoce la trágica verdad y Edipo se arranca los ojos.</a:t>
            </a: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  <a:p>
            <a:pPr marL="380880" indent="-380880">
              <a:lnSpc>
                <a:spcPct val="100000"/>
              </a:lnSpc>
              <a:spcBef>
                <a:spcPts val="2999"/>
              </a:spcBef>
              <a:buClr>
                <a:srgbClr val="908971"/>
              </a:buClr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648"/>
                </a:solidFill>
                <a:latin typeface="Baskerville"/>
              </a:rPr>
              <a:t>En la película tiene un final similar.                                     *Esta acción es la liberación.</a:t>
            </a: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pic>
        <p:nvPicPr>
          <p:cNvPr id="460" name="" descr=""/>
          <p:cNvPicPr/>
          <p:nvPr/>
        </p:nvPicPr>
        <p:blipFill>
          <a:blip r:embed="rId2"/>
          <a:stretch/>
        </p:blipFill>
        <p:spPr>
          <a:xfrm>
            <a:off x="8607600" y="5245200"/>
            <a:ext cx="3047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015920" y="431640"/>
            <a:ext cx="10972800" cy="2081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015920" y="2513160"/>
            <a:ext cx="10972800" cy="6224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80880" indent="-380880">
              <a:lnSpc>
                <a:spcPct val="100000"/>
              </a:lnSpc>
              <a:spcBef>
                <a:spcPts val="2999"/>
              </a:spcBef>
              <a:buClr>
                <a:srgbClr val="908971"/>
              </a:buClr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5b5648"/>
                </a:solidFill>
                <a:uFillTx/>
                <a:latin typeface="Baskerville"/>
              </a:rPr>
              <a:t>Películas basadas en este referente : </a:t>
            </a: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  <a:p>
            <a:pPr marL="380880" indent="-380880">
              <a:lnSpc>
                <a:spcPct val="100000"/>
              </a:lnSpc>
              <a:spcBef>
                <a:spcPts val="2999"/>
              </a:spcBef>
              <a:buClr>
                <a:srgbClr val="908971"/>
              </a:buClr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648"/>
                </a:solidFill>
                <a:latin typeface="Baskerville"/>
              </a:rPr>
              <a:t>La intérprete</a:t>
            </a: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  <a:p>
            <a:pPr marL="380880" indent="-380880">
              <a:lnSpc>
                <a:spcPct val="100000"/>
              </a:lnSpc>
              <a:spcBef>
                <a:spcPts val="2999"/>
              </a:spcBef>
              <a:buClr>
                <a:srgbClr val="908971"/>
              </a:buClr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648"/>
                </a:solidFill>
                <a:latin typeface="Baskerville"/>
              </a:rPr>
              <a:t>Poderosa afrodita</a:t>
            </a: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  <a:p>
            <a:pPr marL="380880" indent="-380880">
              <a:lnSpc>
                <a:spcPct val="100000"/>
              </a:lnSpc>
              <a:spcBef>
                <a:spcPts val="2999"/>
              </a:spcBef>
              <a:buClr>
                <a:srgbClr val="908971"/>
              </a:buClr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648"/>
                </a:solidFill>
                <a:latin typeface="Baskerville"/>
              </a:rPr>
              <a:t>Marnie la ladrona</a:t>
            </a: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  <a:p>
            <a:pPr marL="380880" indent="-380880">
              <a:lnSpc>
                <a:spcPct val="100000"/>
              </a:lnSpc>
              <a:spcBef>
                <a:spcPts val="2999"/>
              </a:spcBef>
              <a:buClr>
                <a:srgbClr val="908971"/>
              </a:buClr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648"/>
                </a:solidFill>
                <a:latin typeface="Baskerville"/>
              </a:rPr>
              <a:t>Matrix</a:t>
            </a: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  <a:p>
            <a:pPr marL="380880" indent="-380880">
              <a:lnSpc>
                <a:spcPct val="100000"/>
              </a:lnSpc>
              <a:spcBef>
                <a:spcPts val="2999"/>
              </a:spcBef>
              <a:buClr>
                <a:srgbClr val="908971"/>
              </a:buClr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648"/>
                </a:solidFill>
                <a:latin typeface="Baskerville"/>
              </a:rPr>
              <a:t>La caja de música</a:t>
            </a: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015920" y="431640"/>
            <a:ext cx="10972800" cy="2081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5b5648"/>
                </a:solidFill>
                <a:latin typeface="Copperplate"/>
              </a:rPr>
              <a:t>FIN</a:t>
            </a:r>
            <a:endParaRPr b="0" lang="en-US" sz="72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015920" y="2513160"/>
            <a:ext cx="10972800" cy="6224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80880" indent="-380880">
              <a:lnSpc>
                <a:spcPct val="100000"/>
              </a:lnSpc>
              <a:spcBef>
                <a:spcPts val="2999"/>
              </a:spcBef>
              <a:buClr>
                <a:srgbClr val="908971"/>
              </a:buClr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648"/>
                </a:solidFill>
                <a:latin typeface="Baskerville"/>
              </a:rPr>
              <a:t>Cristina Peñarroja Martí 2º Batxillerat A</a:t>
            </a: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